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0B05-D2AE-46DC-9776-2EDB4FB4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2A10-D7D6-4A29-A167-4805A35E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A673-0141-4E43-BD29-D5B86093A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166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04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248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166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04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EDD1-B018-4F61-8131-195C4AF5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0D2E-180E-455A-92AB-085F7432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05E4-0875-4DEA-8591-29A74951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CB05-639E-47E6-BBD8-6C9C63F3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7823-2511-431F-99D2-E75A051A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2480" y="893880"/>
            <a:ext cx="660744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A860-6726-4AC5-A770-9418E8E1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12D9-E9A3-44CF-A626-78ACFD9E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1B17-2F57-4002-BCAF-8D1E4DB3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1C20-7803-4CEA-AE55-90271FC9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09120" y="9143640"/>
            <a:ext cx="1600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666880" y="9143640"/>
            <a:ext cx="2438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5562360" y="9143640"/>
            <a:ext cx="1600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47F4-0143-4318-A182-E897BB0A9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90520" y="318960"/>
          <a:ext cx="7010280" cy="933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318960"/>
                    <a:ext cx="7010280" cy="933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324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3636000" y="1473120"/>
            <a:ext cx="75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 OCT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62160" y="5931000"/>
            <a:ext cx="4753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       EA                    143.75                $575.0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1800" y="7581960"/>
            <a:ext cx="59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$57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29840" y="7661160"/>
            <a:ext cx="1194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.N.  PUR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17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0" y="0"/>
          <a:ext cx="777240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7240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4670640" y="7128000"/>
            <a:ext cx="1109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ane T. 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90480" y="8956800"/>
            <a:ext cx="1463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Wendell Purc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18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4975200" y="7128000"/>
            <a:ext cx="1109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ane T. 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10200" y="8939160"/>
            <a:ext cx="1536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Wendell Purc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19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44760" y="7186680"/>
            <a:ext cx="1278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Brian C. Bar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50080" y="7186680"/>
            <a:ext cx="1278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Brian C. Bar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41760" y="8651880"/>
            <a:ext cx="1178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ohn Q.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44960" y="7737480"/>
            <a:ext cx="8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 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02240" y="1446120"/>
            <a:ext cx="833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16-48-192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20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0" y="324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287720" y="7226280"/>
            <a:ext cx="4110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ERRY TITLE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ARY C. GERA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17960" y="7759800"/>
            <a:ext cx="873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32040" y="8674200"/>
            <a:ext cx="1339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OHN Q.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21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0" y="324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-396720" y="13255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47080" y="7226280"/>
            <a:ext cx="5006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W.J. PARRISH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ARLOS J. R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10240" y="7805880"/>
            <a:ext cx="873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55720" y="8674200"/>
            <a:ext cx="1339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OHN Q.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22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0" y="324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907920" y="7184880"/>
            <a:ext cx="4683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LAWRENCE T. STEVES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          EARL N. BREW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19720" y="7805880"/>
            <a:ext cx="873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32040" y="8597880"/>
            <a:ext cx="1339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OHN Q.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23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324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919080" y="7226280"/>
            <a:ext cx="4762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LAWRENCE T. STEVES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            EARL N. BREW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22880" y="7759800"/>
            <a:ext cx="873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0760" y="8826480"/>
            <a:ext cx="199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ECKS N. DeMAIL, LTC, R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59880" y="8597880"/>
            <a:ext cx="75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 OCT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00720" y="8915400"/>
            <a:ext cx="544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-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8040" y="8621640"/>
            <a:ext cx="1550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HECKS N. D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24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152280" y="9360"/>
          <a:ext cx="7763040" cy="1004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360"/>
                    <a:ext cx="7763040" cy="10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4291920" y="9042480"/>
            <a:ext cx="135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upert O. Tay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0880" y="968688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25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0" y="792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2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852120" y="7203960"/>
            <a:ext cx="1627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Lawrence T. Stev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70320" y="7203960"/>
            <a:ext cx="1333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Earl N. Brew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7320" y="7743960"/>
            <a:ext cx="8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 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47800" y="8575560"/>
            <a:ext cx="1420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hecks N. D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26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44960" y="762120"/>
            <a:ext cx="4789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Maintain Commitment and Obligation Records/Review Detail Expenditure Repor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8760" y="1407960"/>
            <a:ext cx="664920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ITU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You are the budget clerk assigned to the Headquarters, 3d Brigade Armor, 77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antry, 54th Infantry Division (Mechanized), Fort Stewart, GA 31314.  You are responsible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the obligation and commitment records; performing the weekly and joint Disburs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/Activity reconciliation, and review of unliquidated obligations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 are responsible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C A142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have 5 class periods to conduct practical exerc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0000" y="2703600"/>
            <a:ext cx="135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5400" y="3160800"/>
            <a:ext cx="710028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ART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Post the documents from pages 5-26 to your FCR. Use date of request as Today’s d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Review/verify and post the obligation data from the DOR 10 01 to 10 1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Answer questions 1-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ART 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Post the documents from pages 30-49 to your FCR.  Today’s date is 20 Oct **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Review/verify and post the obligation data from the DOR 10 20 to 10 2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Review the NSFOP listing and make any adjustments as necessary to y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 Control Rec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Answer questions 8-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8600" y="9596520"/>
            <a:ext cx="648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I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87280" y="520560"/>
            <a:ext cx="4662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S INTERFACE SELECTION DATA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F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 PTVALUK  AVK-130  2  **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6560" y="825480"/>
            <a:ext cx="41115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TAIL OBLIGATION REPORT FOR PERIOD  10   01 TO 10   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ROGRAM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IRECT 2 ACITIVITY B ACCT - CLASS * 2020 76  95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0880" y="1359000"/>
            <a:ext cx="1886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P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= A142  AMS  202011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5200" y="1751040"/>
            <a:ext cx="6778800" cy="22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Y  TAA  FAC  BLK  DOCUMENT  NR     EOR    YR    CSR  DIRECT-OBL  FUNDED-OBL  AUTOMATIC-OBL  CR-RTN-MEM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6440" y="2055960"/>
            <a:ext cx="395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     211     3     212   CAS4176TT10003   21T2                              89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     211     3     212   BAR7732TT10001   21T2                              31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0040" y="2513160"/>
            <a:ext cx="3973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        TOTAL       THIS PERIO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1,205.00                          1,20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2          MTD   OBLIG PERIOD          1,205.00                          1,20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TD   OBLIG PERIOD         1,205.00                          1,20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6440" y="3122640"/>
            <a:ext cx="39427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4     211     3      347   IRV4825TT10002    21T2                             46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9680" y="3427560"/>
            <a:ext cx="39488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        TOTAL       THIS PERIOD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460.00                            46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2          MTD   OBLIG PERIOD            460.00                             46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TD   OBLIG PERIOD            460.00                             46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6440" y="4037040"/>
            <a:ext cx="395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     211     3     212   JON1927TT10005   21T2                              3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4     211     3     347   BEN1927TT10008   21T2                              53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9680" y="4494240"/>
            <a:ext cx="39488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        TOTAL       THIS PERIO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835.00                            83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2          MTD   OBLIG PERIOD            835.00                             83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TD   OBLIG PERIOD            835.00                             83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6800" y="5103720"/>
            <a:ext cx="392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     211     3     212   CAS4176TT10003   21T1                             21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     211     3     212   BAR7732TT10001   21T1                             43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0760" y="5560920"/>
            <a:ext cx="39276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        TOTAL       THIS PERIO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650.00                            6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1          MTD   OBLIG PERIOD            650.00                            6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TD   OBLIG PERIOD            650.00                            6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6440" y="6170760"/>
            <a:ext cx="39427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4     211     3      347   IRV4825TT10002    21T1                             13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6475320"/>
            <a:ext cx="39276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        TOTAL       THIS PERIO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130.00                            13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1          MTD   OBLIG PERIOD            130.00                            13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TD   OBLIG PERIOD            130.00                            13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6440" y="7085160"/>
            <a:ext cx="395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     211     3     212   JON1927TT10005   21T1                                2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4     211     3     347   BEN1927TT10008   21T1                              17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0760" y="7577280"/>
            <a:ext cx="39276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        TOTAL       THIS PERIO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200.00                            2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1          MTD   OBLIG PERIOD            200.00                            2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TD   OBLIG PERIOD            200.00                            2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7520" y="8228160"/>
            <a:ext cx="3921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     231     3     230   PRC1002**C1713   2321                         7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9680" y="8567640"/>
            <a:ext cx="39488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        TOTAL       THIS PERIO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70,000.00                  7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21          MTD   OBLIG PERIOD             70,000.00                  7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TD   OBLIG PERIOD              70,000.00                  7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27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87280" y="444600"/>
            <a:ext cx="4662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S INTERFACE SELECTION DATA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F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 PTVALUK  AVK-130  2  **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6560" y="749160"/>
            <a:ext cx="41115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TAIL OBLIGATION REPORT FOR PERIOD  10   01 TO 10   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ROGRAM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IRECT 2 ACITIVITY B ACCT - CLASS * 2020 76  95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0880" y="1282680"/>
            <a:ext cx="1886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P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= A142  AMS  202011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4480" y="1674720"/>
            <a:ext cx="6939000" cy="22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Y  TAA  FAC  BLK  DOCUMENT  NR     EOR    YR    CSR       DIRECT-OBL  FUNDED-OBL  AUTOMATIC-OBL  CR-RTN-MEM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6440" y="2131920"/>
            <a:ext cx="41072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     231     3     386   PRC1125**P2100   2572                                    57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7880" y="2513160"/>
            <a:ext cx="41364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         TOTAL     THIS     PERIO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575.00                                   57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72      MTD   OBLIG TOTAL                  575.00                                   57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TD    OBLIG TOTAL                 575.00                                    57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6080" y="3198960"/>
            <a:ext cx="41270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     231     3     386   W54FTATT4002       26EB                               6,6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7880" y="3579840"/>
            <a:ext cx="41364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         TOTAL     THIS     PERIO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6,600.00                               6,6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6EB      MTD   OBLIG TOTAL               6,600.00                               6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TD    OBLIG TOTAL               6,600.00                               6,6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7520" y="4265640"/>
            <a:ext cx="40798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     211     3     401   PRC1007**C1772    26AR                              1,1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7880" y="4570560"/>
            <a:ext cx="41364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         TOTAL     THIS     PERIO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1,150.00                               1,1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6AR      MTD   OBLIG TOTAL               1,150.00                               1,1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TD    OBLIG TOTAL               1,150.00                               1,1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7840" y="5334120"/>
            <a:ext cx="7416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7840" y="5486400"/>
            <a:ext cx="7416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28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70000" y="717480"/>
            <a:ext cx="7132320" cy="81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(Refer to the FCR)  Based on the reconciliation, what action would you take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N:  SMI7459TT10004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Take no 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Remove SMI7459TT10004 from your FC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Call the DO to find out why the document has not processed and make no changes to your FC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Call the DO to find out why the document has not processed and remove the transaction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CR until it processes on the D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(Refer to the DOR, EOR 21T2)  What DATE/BLK # should you post to the FCR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N:  IRV4825TT10002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19 Oct/2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14 Oct/3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19 Oct/2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  1 Oct/3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(Refer to the FCR)  What is the current uncommitted balance for EOR 2100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$     7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$14,235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$13,0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$  9,945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at is the date column on the FCR used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To show when the availability of funds was cert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Ending date of the D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Beginning date of the D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The posted current date of the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Which column on the FCR reflects the current quarterly funding allowa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Obligation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Commitment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Uncommitted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Funding Tar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(Refer to the DOR)  In what stage is the transaction DRN:  PRC1002**C1713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Accounts Pay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Obl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Accrued Expenditure/Expe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Disburs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 (Refer to the DOR)  Who made the input to DRN:  PRC1125**P2100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Process cr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Budget Offi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Supply 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Disbursing 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29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965880" y="7186680"/>
            <a:ext cx="1413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atherine Gar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88320" y="7186680"/>
            <a:ext cx="1398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obert L. Mich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55920" y="7805880"/>
            <a:ext cx="8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 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34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987840" y="7186680"/>
            <a:ext cx="855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erry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00480" y="7203960"/>
            <a:ext cx="1213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ary C. Gera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24160" y="7805880"/>
            <a:ext cx="8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 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35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4128120" y="7203960"/>
            <a:ext cx="1327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ale B. Rod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96040" y="7203960"/>
            <a:ext cx="1525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onald M. John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74440" y="7805880"/>
            <a:ext cx="130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E.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36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3818520" y="1511280"/>
            <a:ext cx="75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 OCT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18720" y="2514600"/>
            <a:ext cx="75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 OCT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3080" y="7696080"/>
            <a:ext cx="1987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ENDELL PURCHASE, LTC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58720" y="7577280"/>
            <a:ext cx="1463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Wendell Purc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37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9360" y="792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792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3605040" y="9185400"/>
            <a:ext cx="1219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ary Dia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38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3618720" y="9185400"/>
            <a:ext cx="1153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ohn J. W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39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5319720" y="5626080"/>
            <a:ext cx="434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14160" y="9032760"/>
            <a:ext cx="1463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Wendell Purc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61360" y="7128000"/>
            <a:ext cx="1524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Paul W. Burroug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40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3167280" y="8164440"/>
            <a:ext cx="637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67280" y="7935840"/>
            <a:ext cx="637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27320" y="7737480"/>
            <a:ext cx="8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 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62240" y="7203960"/>
            <a:ext cx="1213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ary C. Gera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1520" y="7203960"/>
            <a:ext cx="855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erry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8600" y="9596520"/>
            <a:ext cx="651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5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798640" y="846000"/>
            <a:ext cx="1892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NTINUATION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38240" y="846000"/>
            <a:ext cx="96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 of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7880" y="1227240"/>
            <a:ext cx="4889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roughs Office Machines, 123 East 46th Street, Atlanta, GA  316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6520" y="1608120"/>
            <a:ext cx="2060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ct #  DAFI01**C17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5200" y="1913040"/>
            <a:ext cx="7147800" cy="27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                           SUPPLIES/SERVICES                     QTY         UNIT         PRICE         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1360" y="2370240"/>
            <a:ext cx="5655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2800" y="2370240"/>
            <a:ext cx="377964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year rental for IBM System 4002  (EOR 233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year rental for Software Package 12  (EOR 233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74440" y="2370240"/>
            <a:ext cx="30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04080" y="2370240"/>
            <a:ext cx="4284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58040" y="2370240"/>
            <a:ext cx="10774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2,000.00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  1,2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548400" y="2362320"/>
            <a:ext cx="10350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2,000.0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  1,2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65280" y="3436920"/>
            <a:ext cx="648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26720" y="3817800"/>
            <a:ext cx="5730480" cy="31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HIP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FOB Dest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HIP 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VO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(Must include) - Contract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ed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ctor’s name and remit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SPECTION AND ACCEPTAN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ment will be made upon receipt and acceptance of the goods and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41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3768120" y="9185400"/>
            <a:ext cx="1312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obert I. Fil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42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4366800" y="8956800"/>
            <a:ext cx="1463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Wendell Purc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19720" y="5667480"/>
            <a:ext cx="434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31120" y="7128000"/>
            <a:ext cx="1402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oger S. Pea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43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-1440" y="0"/>
          <a:ext cx="7765920" cy="1005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0" y="0"/>
                    <a:ext cx="7765920" cy="1005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5396040" y="5626080"/>
            <a:ext cx="434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76120" y="7116840"/>
            <a:ext cx="1037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MARY SCHU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81040" y="8985240"/>
            <a:ext cx="1021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44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771480" y="8651880"/>
            <a:ext cx="1420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hecks N. D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29080" y="7186680"/>
            <a:ext cx="1213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ary C. Gera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87840" y="7203960"/>
            <a:ext cx="855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erry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76800" y="7805880"/>
            <a:ext cx="8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 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45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847800" y="8651880"/>
            <a:ext cx="1420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hecks N. D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32240" y="7805880"/>
            <a:ext cx="8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 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64640" y="7186680"/>
            <a:ext cx="1398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obert L. Mich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18160" y="7186680"/>
            <a:ext cx="1413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atherine Gar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46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0" y="0"/>
          <a:ext cx="7763040" cy="1004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4210920" y="9032760"/>
            <a:ext cx="1348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obert O. Tay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47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0" y="0"/>
          <a:ext cx="7763040" cy="1004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4139640" y="9056520"/>
            <a:ext cx="135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upert O. Tay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48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0" y="0"/>
          <a:ext cx="7763040" cy="1004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4139640" y="9032760"/>
            <a:ext cx="135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upert O. Tay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49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86920" y="426960"/>
            <a:ext cx="4872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S INTERFACE SELECTION DATA           REF:  PTVAUK  AVK-130     2     **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5480" y="731880"/>
            <a:ext cx="5970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TAIL OBLIGATION REPORT FOR PERIOD 10  20 TO 10  26    PROGRAM-DIRECT 2 ACTIVITY 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T-CLASS  *  2020 76 95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4040" y="1189080"/>
            <a:ext cx="2027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P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=  A142    AMS  202011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1920" y="1581120"/>
            <a:ext cx="6999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DA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TA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FAC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BLK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DOCUMENT  #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Y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S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DIRECT-OBL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FUNDED-OBL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AUTOMATIC-OBL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R-RTN-MEM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96640" y="1874880"/>
            <a:ext cx="4047480" cy="241200"/>
            <a:chOff x="296640" y="1874880"/>
            <a:chExt cx="4047480" cy="241200"/>
          </a:xfrm>
        </p:grpSpPr>
        <p:sp>
          <p:nvSpPr>
            <p:cNvPr id="289" name=""/>
            <p:cNvSpPr/>
            <p:nvPr/>
          </p:nvSpPr>
          <p:spPr>
            <a:xfrm>
              <a:off x="296640" y="187488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7080" y="187488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82000" y="187488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10960" y="1874880"/>
              <a:ext cx="4053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38920" y="1874880"/>
              <a:ext cx="12268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R7732TT10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634480" y="1874880"/>
              <a:ext cx="469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T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777120" y="1874880"/>
              <a:ext cx="567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1.3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915840" y="2103480"/>
            <a:ext cx="45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77600" y="2103480"/>
            <a:ext cx="59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440440" y="210348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14760" y="2297160"/>
            <a:ext cx="1890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T2        MTD OBLIG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944080" y="2297160"/>
            <a:ext cx="1408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86.35           986.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04800" y="2484360"/>
            <a:ext cx="2842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OBLIG TOTAL           986.35           986.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29760" y="2747880"/>
            <a:ext cx="4014360" cy="241200"/>
            <a:chOff x="329760" y="2747880"/>
            <a:chExt cx="4014360" cy="241200"/>
          </a:xfrm>
        </p:grpSpPr>
        <p:sp>
          <p:nvSpPr>
            <p:cNvPr id="303" name=""/>
            <p:cNvSpPr/>
            <p:nvPr/>
          </p:nvSpPr>
          <p:spPr>
            <a:xfrm>
              <a:off x="329760" y="274788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10920" y="274788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5840" y="274788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44440" y="2747880"/>
              <a:ext cx="4053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72760" y="2747880"/>
              <a:ext cx="12268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R7732TT10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8320" y="2747880"/>
              <a:ext cx="469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T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769560" y="2747880"/>
              <a:ext cx="5745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4.8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888840" y="3017880"/>
            <a:ext cx="45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50600" y="3017880"/>
            <a:ext cx="59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413440" y="301788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87760" y="3211560"/>
            <a:ext cx="1890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T1        MTD OBLIG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67760" y="3211560"/>
            <a:ext cx="1478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25.14            925.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77800" y="3398760"/>
            <a:ext cx="2842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OBLIG TOTAL          925.14            925.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02760" y="3686040"/>
            <a:ext cx="4041720" cy="241200"/>
            <a:chOff x="302760" y="3686040"/>
            <a:chExt cx="4041720" cy="241200"/>
          </a:xfrm>
        </p:grpSpPr>
        <p:sp>
          <p:nvSpPr>
            <p:cNvPr id="317" name=""/>
            <p:cNvSpPr/>
            <p:nvPr/>
          </p:nvSpPr>
          <p:spPr>
            <a:xfrm>
              <a:off x="302760" y="368604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3920" y="368604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88840" y="368604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7080" y="368604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445760" y="3686040"/>
              <a:ext cx="11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MI7459TT100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41320" y="3686040"/>
              <a:ext cx="469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T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742560" y="3686040"/>
              <a:ext cx="6019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30.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888840" y="3932280"/>
            <a:ext cx="45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50600" y="3932280"/>
            <a:ext cx="59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413440" y="393228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87760" y="4125960"/>
            <a:ext cx="1890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T2        MTD OBLIG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67760" y="4125960"/>
            <a:ext cx="1478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0.00            54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77800" y="4313160"/>
            <a:ext cx="2842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OBLIG TOTAL          540.00            54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07280" y="3956040"/>
            <a:ext cx="637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02760" y="4576680"/>
            <a:ext cx="4041720" cy="241200"/>
            <a:chOff x="302760" y="4576680"/>
            <a:chExt cx="4041720" cy="241200"/>
          </a:xfrm>
        </p:grpSpPr>
        <p:sp>
          <p:nvSpPr>
            <p:cNvPr id="332" name=""/>
            <p:cNvSpPr/>
            <p:nvPr/>
          </p:nvSpPr>
          <p:spPr>
            <a:xfrm>
              <a:off x="302760" y="457668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83920" y="457668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88840" y="457668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17080" y="457668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45760" y="4576680"/>
              <a:ext cx="11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MI7459TT100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641320" y="4576680"/>
              <a:ext cx="469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T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42560" y="4576680"/>
              <a:ext cx="6019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5.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888840" y="4788000"/>
            <a:ext cx="45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650600" y="4788000"/>
            <a:ext cx="59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413440" y="47880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87760" y="5016600"/>
            <a:ext cx="1890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T1        MTD OBLIG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867760" y="4981680"/>
            <a:ext cx="1478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35.00            33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477440" y="5168880"/>
            <a:ext cx="28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OBLIG TOTAL          335.00             33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707640" y="4811760"/>
            <a:ext cx="636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302760" y="5432400"/>
            <a:ext cx="3994200" cy="241200"/>
            <a:chOff x="302760" y="5432400"/>
            <a:chExt cx="3994200" cy="241200"/>
          </a:xfrm>
        </p:grpSpPr>
        <p:sp>
          <p:nvSpPr>
            <p:cNvPr id="347" name=""/>
            <p:cNvSpPr/>
            <p:nvPr/>
          </p:nvSpPr>
          <p:spPr>
            <a:xfrm>
              <a:off x="302760" y="543240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3920" y="543240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88840" y="543240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17080" y="543240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44680" y="5432400"/>
              <a:ext cx="1222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OH4093TT100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641320" y="5432400"/>
              <a:ext cx="469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T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89920" y="5432400"/>
              <a:ext cx="7070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350.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02760" y="5584680"/>
            <a:ext cx="3997080" cy="241200"/>
            <a:chOff x="302760" y="5584680"/>
            <a:chExt cx="3997080" cy="241200"/>
          </a:xfrm>
        </p:grpSpPr>
        <p:sp>
          <p:nvSpPr>
            <p:cNvPr id="355" name=""/>
            <p:cNvSpPr/>
            <p:nvPr/>
          </p:nvSpPr>
          <p:spPr>
            <a:xfrm>
              <a:off x="302760" y="558468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83920" y="558468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88840" y="558468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117080" y="558468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444680" y="5584680"/>
              <a:ext cx="1222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ON1927TT100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41320" y="5584680"/>
              <a:ext cx="469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T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25280" y="5584680"/>
              <a:ext cx="5745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0.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02760" y="5737320"/>
            <a:ext cx="4011480" cy="241200"/>
            <a:chOff x="302760" y="5737320"/>
            <a:chExt cx="4011480" cy="241200"/>
          </a:xfrm>
        </p:grpSpPr>
        <p:sp>
          <p:nvSpPr>
            <p:cNvPr id="363" name=""/>
            <p:cNvSpPr/>
            <p:nvPr/>
          </p:nvSpPr>
          <p:spPr>
            <a:xfrm>
              <a:off x="302760" y="573732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83920" y="573732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88840" y="573732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17080" y="573732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45760" y="5737320"/>
              <a:ext cx="11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L9701TT100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41320" y="5737320"/>
              <a:ext cx="469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T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12320" y="5737320"/>
              <a:ext cx="6019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0.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878040" y="6006960"/>
            <a:ext cx="45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39440" y="6006960"/>
            <a:ext cx="59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402640" y="600696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76960" y="6200640"/>
            <a:ext cx="1890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T2        MTD OBLIG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856600" y="6200640"/>
            <a:ext cx="1513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,404.86          3,404.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466280" y="6388200"/>
            <a:ext cx="28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OBLIG TOTAL       3,404.86          3,404.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02520" y="6031080"/>
            <a:ext cx="74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,719.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291600" y="6669000"/>
            <a:ext cx="4024440" cy="241200"/>
            <a:chOff x="291600" y="6669000"/>
            <a:chExt cx="4024440" cy="241200"/>
          </a:xfrm>
        </p:grpSpPr>
        <p:sp>
          <p:nvSpPr>
            <p:cNvPr id="378" name=""/>
            <p:cNvSpPr/>
            <p:nvPr/>
          </p:nvSpPr>
          <p:spPr>
            <a:xfrm>
              <a:off x="291600" y="666900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72760" y="666900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77680" y="666900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105920" y="666900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33520" y="6669000"/>
              <a:ext cx="1222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OH4093TT100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630160" y="6669000"/>
              <a:ext cx="469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T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14120" y="6669000"/>
              <a:ext cx="6019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40.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1446480" y="6845400"/>
            <a:ext cx="1222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N1927TT10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1600" y="6821640"/>
            <a:ext cx="4019400" cy="241200"/>
            <a:chOff x="291600" y="6821640"/>
            <a:chExt cx="4019400" cy="241200"/>
          </a:xfrm>
        </p:grpSpPr>
        <p:sp>
          <p:nvSpPr>
            <p:cNvPr id="387" name=""/>
            <p:cNvSpPr/>
            <p:nvPr/>
          </p:nvSpPr>
          <p:spPr>
            <a:xfrm>
              <a:off x="291600" y="682164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72760" y="682164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77680" y="682164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06280" y="6821640"/>
              <a:ext cx="4053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630160" y="6821640"/>
              <a:ext cx="469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T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849120" y="6821640"/>
              <a:ext cx="4618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.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291600" y="6973920"/>
            <a:ext cx="4005360" cy="241200"/>
            <a:chOff x="291600" y="6973920"/>
            <a:chExt cx="4005360" cy="241200"/>
          </a:xfrm>
        </p:grpSpPr>
        <p:sp>
          <p:nvSpPr>
            <p:cNvPr id="394" name=""/>
            <p:cNvSpPr/>
            <p:nvPr/>
          </p:nvSpPr>
          <p:spPr>
            <a:xfrm>
              <a:off x="291600" y="697392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2760" y="697392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77680" y="697392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05920" y="6973920"/>
              <a:ext cx="391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434600" y="6973920"/>
              <a:ext cx="11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L9701TT100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630160" y="6973920"/>
              <a:ext cx="4694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T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89920" y="6973920"/>
              <a:ext cx="7070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150.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878040" y="7209000"/>
            <a:ext cx="45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639440" y="7209000"/>
            <a:ext cx="59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02640" y="72090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76960" y="7402680"/>
            <a:ext cx="1890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T1        MTD OBLIG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56600" y="7402680"/>
            <a:ext cx="1513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,449.40          2,449.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66280" y="7589880"/>
            <a:ext cx="28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OBLIG TOTAL       2,449.40          2,449.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602520" y="7232760"/>
            <a:ext cx="74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,099.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84160" y="7835760"/>
            <a:ext cx="455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45920" y="7835760"/>
            <a:ext cx="59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408760" y="783576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82720" y="8029440"/>
            <a:ext cx="1917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21         MTD OBLIG 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86760" y="8029440"/>
            <a:ext cx="1548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,000.00       7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473120" y="8217000"/>
            <a:ext cx="2842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OBLIG TOTAL     70,000.00       7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532320" y="7859880"/>
            <a:ext cx="81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50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949680" y="7186680"/>
            <a:ext cx="1278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Brian C. Bar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50080" y="7186680"/>
            <a:ext cx="1278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Brian C. Bar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03640" y="7737480"/>
            <a:ext cx="8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 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8600" y="9596520"/>
            <a:ext cx="651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6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225000" y="480960"/>
            <a:ext cx="4872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S INTERFACE SELECTION DATA           REF:  PTVAUK  AVK-130     2     **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3560" y="874800"/>
            <a:ext cx="5970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TAIL OBLIGATION REPORT FOR PERIOD 10  20 TO 10  26    PROGRAM-DIRECT 2 ACTIVITY 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T-CLASS  * 2020 76 95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2120" y="1467000"/>
            <a:ext cx="2027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P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=  A142    AMS  202011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1920" y="1969920"/>
            <a:ext cx="6999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DA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TA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FAC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BLK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DOCUMENT  #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Y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S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DIRECT-OBL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FUNDED-OBL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AUTOMATIC-OBL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R-RTN-MEM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95200" y="2197080"/>
            <a:ext cx="4107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    231    3   524   PRC1005**C2108     2332                    24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76480" y="2443320"/>
            <a:ext cx="41745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240,000.00               24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32     MTD    OBLIG TOTAL              240,000.00               24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    OBLIG TOTAL             240,000.00                24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5200" y="3054240"/>
            <a:ext cx="4142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    231    3   524   PRC1009**C1774      2335                      12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6480" y="3340080"/>
            <a:ext cx="41745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12,000.00                 12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35     MTD    OBLIG TOTAL                12,000.00                 12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    OBLIG TOTAL                12,000.00                 12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5200" y="3927600"/>
            <a:ext cx="4107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    231    3   524   PRC1009**C1774     2339                        1,2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76480" y="4160880"/>
            <a:ext cx="41745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1,200.00                   1,2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39     MTD    OBLIG TOTAL                  1,200.00                   1,2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    OBLIG TOTAL                  1,200.00                   1,2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94840" y="4765680"/>
            <a:ext cx="42001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    231    3   524   PRC1003**C1594      2572                         5,49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    231    3   524   PRC1205**P2133      2572                         1,03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    231    3   538   W54FTATT4004         2572                        1,500.0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76480" y="5303880"/>
            <a:ext cx="42094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8,025.00                    8,025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72     MTD    OBLIG TOTAL                15,200.00                  15,2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    OBLIG TOTAL                15,200.00                  15,2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76480" y="5913360"/>
            <a:ext cx="42094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6AR     MTD    OBLIG TOTAL                 1,150.00                    1,15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    OBLIG TOTAL                  1,150.00                    1,15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95560" y="6459480"/>
            <a:ext cx="4161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    231    3   538   W54FTATT4001        26EB                      10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    231    3   524   PRC1205**P2133      26EB                        1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77560" y="6921360"/>
            <a:ext cx="42231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S PERIO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11,000.00                  11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6EB     MTD    OBLIG TOTAL                11,000.00                  11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TD     OBLIG TOTAL                11,000.00                  11,00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51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09520" y="596880"/>
            <a:ext cx="1521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PARED  26 OCT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269080" y="596880"/>
            <a:ext cx="2807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N STOCK FUND ORDERS AND PAY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846400" y="596880"/>
            <a:ext cx="1172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 OF 25 OCT 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03040" y="1054080"/>
            <a:ext cx="3231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C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P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F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F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PP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Q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LL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F/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       D      21           *    2020    0    76   9505   009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4720" y="1522440"/>
            <a:ext cx="75103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IMT PROG  APC EOR  ODC  DOCUMENT NO NAME  OBL AMT    ACC AMT    DISB AMT  EOC-HR  O-DT  A-DT  D-DT  AF DF LI  FAC  L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9160" y="1751040"/>
            <a:ext cx="76064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  2000  A142   21T2    2    BAR7732TT10001            396.35          396.35         396.35                       * 284  * 284  * 296        F    K    3      01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517400" y="1895400"/>
            <a:ext cx="24552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729440" y="1879560"/>
            <a:ext cx="113256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S4176TT10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7732TT100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S4176TT10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RV4285TT10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MI7459TT10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MI7495TT10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RV4285TT10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MI7459TT10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N1927TT10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4093TT1000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N1927TT10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9701TT100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N1927TT10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4093TT1000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N1927TT10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9701TT100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C1002**C17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C1005**C21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C1009**C177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C1009**C177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C1003**C159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C1125**P21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C1205**P213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54FTATT4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C1007**C177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54FTATT4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C1007**C177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54FTATT40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54FTATT4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123560" y="2014560"/>
            <a:ext cx="468000" cy="37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T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3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3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3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7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6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6E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817000" y="1879560"/>
            <a:ext cx="7578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9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10.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1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8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8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,3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9.8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1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2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4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4.4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1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4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2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,49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7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03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5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1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,6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485160" y="1879560"/>
            <a:ext cx="7578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9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10.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1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8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8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,3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9.8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1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25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4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4.4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1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15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00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112280" y="1879560"/>
            <a:ext cx="7578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10.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2.5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9.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9.8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4.4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095.2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451840" y="1879560"/>
            <a:ext cx="437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97800" y="1879560"/>
            <a:ext cx="46944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8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120360" y="1879560"/>
            <a:ext cx="437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29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83480" y="1509840"/>
            <a:ext cx="26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630480" y="1886040"/>
            <a:ext cx="251640" cy="37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24520" y="1911240"/>
            <a:ext cx="26388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009920" y="1886040"/>
            <a:ext cx="24552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274880" y="1886040"/>
            <a:ext cx="3096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" y="624852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8600" y="640080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87520" y="9677520"/>
            <a:ext cx="680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       52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55680" y="711360"/>
            <a:ext cx="7014600" cy="84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.  (Refer to the FCR)  What is the current Uncommitted Balance for EOR 2100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.  $9,385.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.  $9,265.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.  $9,359.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.  $9,239.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.  If you have a negative balance in the Uncommitted Balance column of your FCR wh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ublic Law are you in violation of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.  Title 13;  USC 15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.  Title 1517;  USC 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.  Title 31;  USC 15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.  Title 1517;  USC 3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.  (Refer to FCR, EOR 2600)  Situation:  You have just received a Purchase Request an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mitment document in your office with a total dollar amount of $2,000.00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.  Post it to your FC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.  Return the document to the originator with an explanation funding is not avail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t this time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.  Do not post the document to your FCR but forward to contracting for further processing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1.  What is the primary purpose of the NSFOP listing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.  Contains open expenditure accounting transac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.  Contains expenditure ceiling and undelivered orders by program ele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.  Will provide a listing of all old obliga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.  Provides fund managers with unobligated ceiling dollars by appropriation/allot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A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2.  What is an open transaction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.  A transaction in the commitment stag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.  A transaction in which the dollar value of the obligation and accrual matc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.  A transaction in which the dollar value of the disbursement is greater than the oblig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accru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.  A transaction in which the dollar value of the obligation, accrual, and the disburse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re not equ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  FOR QUESTIONS 13-16 REFER TO THE NSF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3.  What is the amount of Undelivered Orders for EOR 2339, DRN:  PRC1009**C1774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.  $         0.00, this is not an Undeliverable Ord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.  $  1,200.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.  $12,000.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.  $13,200.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53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264960" y="824040"/>
            <a:ext cx="7225200" cy="79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  What is the amount of Undelivered Orders for EOR 26AR, DRN:  PRC1007**C1772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$       0.00, this is not an Undelivered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$1,1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$2,3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$1,095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.  What is the amount of Unliquidated Obligations for EOR 21T1, DRN:  SMI7459TT10004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$    5.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$  27.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$  49.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$  55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  After conducting a reconciliation with DO what action would you take on the transaction, EOR 21T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N:  SMI7459TT10004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Have DO move the disbursement from SMI7495TT10004 to the obligation un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N SMI7459TT100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Have DO move the obligation from SMI7459TT10004 to the disbursement u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N SMI7495TT100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Adjust the commitments on your FCR-27.4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No action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.  What action does the document on page 36 requi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Post to the FCR and forward to finance for oblig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Post to the FCR but wait until later to oblig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No action required at this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.  What is the MTD OBLIG TOTAL for EOR 2321 on the DOR 20-26 Octob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$  2,449.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$70,0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$  2,099.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.  What is the amount processed on the DOR during the time period 20-26 October for EOR 2572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$  1,2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$  5,49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$  8,025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$15,2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.  (Refer to the NSFOP)  What was the last date transaction EOR 21T2 affected the oblig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N:  BAR7732TT10001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*2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*2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25 Oct 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26 Oct 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9480" y="9220320"/>
            <a:ext cx="65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54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299880" y="1119240"/>
            <a:ext cx="7036200" cy="24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.  The General Fund Delinquent Report has the same format as what report?  What is this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NSFOP/used to reconcile closed trans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NSFOP/used to reconcile DRN’s where the obligation is greater than the disbursement an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 criteria exceeds the criteria established by the Liquidation Indicator C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DOR/used to reconcile closed transactions where the obligation is less than the disburs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NSFOP/used to reconcile open transactions where there is an “F” in the disbursement f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 column of the NSF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.  (Refer to the NSFOP)  What does the ODC for EOR 26AR, DRN:  PRC1007**C1772 tell 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Funds spent outside the U.S. gover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Funds spent within the U.S. gover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Funds spent in a foreign count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88240" y="9677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55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914400" y="7203960"/>
            <a:ext cx="1533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Lawrence T. Ste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22600" y="7203960"/>
            <a:ext cx="1333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Earl N. Brew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05160" y="7805880"/>
            <a:ext cx="8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 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8600" y="9596520"/>
            <a:ext cx="651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7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762120" y="7203960"/>
            <a:ext cx="1533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Lawrence T. Ste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7203960"/>
            <a:ext cx="1333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Earl N. Brew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76560" y="7805880"/>
            <a:ext cx="87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 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8600" y="9596520"/>
            <a:ext cx="651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8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324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-320760" y="178272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06200" y="7226280"/>
            <a:ext cx="4842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LAWRENCE T. STEVES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              EARL N. BREW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62520" y="7800840"/>
            <a:ext cx="873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8600" y="9596520"/>
            <a:ext cx="651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9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324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-549360" y="201132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22240" y="734544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7080" y="7226280"/>
            <a:ext cx="5006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W.J. PARRISH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ARLOS J. R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86200" y="7818480"/>
            <a:ext cx="873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C.S. 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8240" y="9596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10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0" y="0"/>
          <a:ext cx="7763040" cy="1005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63040" cy="100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3677400" y="9190080"/>
            <a:ext cx="1308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Harry S. Gol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8240" y="9596520"/>
            <a:ext cx="65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 PE                                                                                16                                                                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07T13:59:44Z</dcterms:created>
  <dc:creator>SFL</dc:creator>
  <dc:description/>
  <dc:language>en-US</dc:language>
  <cp:lastModifiedBy>Administrator</cp:lastModifiedBy>
  <cp:lastPrinted>2001-10-02T20:32:23Z</cp:lastPrinted>
  <dcterms:modified xsi:type="dcterms:W3CDTF">2005-03-23T21:28:57Z</dcterms:modified>
  <cp:revision>19</cp:revision>
  <dc:subject/>
  <dc:title>No Slide Title</dc:title>
</cp:coreProperties>
</file>